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85A-5490-45F9-9468-22A75CDE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816-2AB2-48DF-96ED-9B7AE5B9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B8E-555D-4A85-8231-BF230DE2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02B-6E3B-4A52-B8F4-6DF1235B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AE20-E81D-4C52-AD48-3E3052A9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477B-C643-4888-9FDF-B78DEEF1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C0CB-3C3B-4775-B833-D748E529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3FD8-89E3-449B-94E4-CCCD7120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A906-9949-4521-9EBC-484EC06A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012D-93E3-4A9A-84F8-5F660F3C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3B29-30B4-4D0C-A97D-BD8148B0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DB7-092A-4DFB-8C45-BB0C2439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779E-F3B3-4B75-A505-71C9A8EB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A02E-A7BC-4A7A-ADBD-B2FC9AE9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2C37-4509-428D-84ED-27992EC7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99AA-7DB9-4C0F-A65A-77DD2C90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1C3F-A9C7-487F-85DB-CF662288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D71-75CB-4B9B-A3EC-9B143BD3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409-4DD3-4EE6-88B0-77C05D0D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D8E-BE95-4650-9358-2A7286E0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5FA-2706-4B83-8305-50132101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C5D-B387-44D0-9E15-55075165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285-8DB2-484C-8410-71832BD0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1BD-A870-4341-9821-811606D7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EC59-6F0C-42D5-9C4B-F3AD4B65AB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8FB1-06F0-4148-A3E9-0A6B07F7A6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ТИМСКИ РАД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. и вештинама за обављање тимских за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али конфликти се решавају сарадњ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ланови тима се поштују и уважава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ни стилови су различито награђ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ажавање индивидуалних потреба је саставни део тимског 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6 так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 решавање конфликата у тимови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ављање већег броја информација и дискусија о основним чињениц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ој више алтернатива како би се унапредила деб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једничко усаглашавање циљ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ацивање хумора у процес одлуч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ржавање равнотеже јаких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бацивање одлука без снажног консенз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ф: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а људи коју повезују зејднични циљеви и интереси и који располажу одређеним вештинама и знањима за остваривање постављених задатака и циљ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р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еличина ти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1 Категоризација тим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Тимови за решавање пробл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прављачк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имови за подрш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2 Категоризација тим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Радн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Менаџерск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3 Категоризација тим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ојектн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имови за тоталну сатисфакцију потрош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имови као радне једи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иртуелни ти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прављање тимов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Јасно постављени циљеви и очекивани резулт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авилна селекција чланова т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иверсификова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личитост и комплементарност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ш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лобална интег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локална респонз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имско лиде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нтег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ерење прог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свећеност свим члановима 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егова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Решавање конфли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«мали» конфл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«велики» конфл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Мерење перформанси и награђивање тим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облем мерења перформанси 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ју не испуњавања циљ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онуси или унапређ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Промовисање давања повратне информације и уч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акто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ји утичу на ефикасност тимског ра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4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омуникација, кооперација, колаборација и компром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Врем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реме које тим проведе заје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Истинска партиципациј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тарији руководиоци и остали запослени увек треба да функционишу као 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мов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рактеристи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спешних тим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љеви чланова тима се поклапају са циљевима прој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ланови тима учествују у планирању и контроли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луке се заснивају на консенз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дер тима и чланови пројектују план и извршавају 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ланови тима располажу знањима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3T17:50:31Z</dcterms:modified>
  <cp:revision>182</cp:revision>
  <dc:subject/>
  <dc:title>Soft and Hard Skills Development: A Current Situation in Serbian Companies</dc:title>
</cp:coreProperties>
</file>